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04D-FD1C-42E4-B336-285427F6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7FE9-4CB8-4EC6-903E-7DBAE32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334-AA45-4FDD-A34B-F33B5083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AB3-2AE7-4F34-8061-9A84261A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55D-4A73-4FE6-B423-8FEEB0C5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ED9-37CF-4EC9-A4D7-99A47321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5F6-63A4-4385-A0C9-E41001C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CDC-BF70-41D9-9DBB-D9FF973D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316-18B2-4F46-BC7C-6D8A2368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DE2-F132-42C3-BF58-02C59275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95D-88E4-4BE2-8321-A8DEFE1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10D-057C-474D-864F-F80EC91E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4D6-AFAE-4750-A7EF-F1272BFD87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5.xml"/><Relationship Id="rId10" Type="http://schemas.openxmlformats.org/officeDocument/2006/relationships/slide" Target="slide30.xml"/><Relationship Id="rId11" Type="http://schemas.openxmlformats.org/officeDocument/2006/relationships/hyperlink" Target="file:///&#23553;&#38754;&#19982;&#30446;&#24405;.ppt" TargetMode="External"/><Relationship Id="rId12" Type="http://schemas.openxmlformats.org/officeDocument/2006/relationships/hyperlink" Target="file:///&#23553;&#38754;&#19982;&#30446;&#24405;.ppt" TargetMode="Externa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选择结构程序设计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设计选择结构程序，要考虑两个方面的问题：一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如何来表示条件，二是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实现选择结构用什么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表示条件，一般用关系表达式或逻辑表达式，实现选择结构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4.1  关系运算及其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4.2  逻辑运算及其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4.3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i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4.4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switch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4.5  选择结构程序举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0" action="ppaction://hlinksldjump"/>
              </a:rPr>
              <a:t>良好的源程序书写风格──注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1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2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3   i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语句和条件运算符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.3.1  i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任意三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三个数中的最大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的格式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num1,num2,num3,max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Please input three numbers:"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"%d,%d,%d",&amp;num1,&amp;num2,&amp;num3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f (num1&gt;num2)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ax=num1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else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ax=num2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if (num3&gt;max)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max=num3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The three numbers are:%d,%d,%d\n",num1,num2,num3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max=%d\n",max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ease input three numbers:11,22,18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three numbers are:11,22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=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案例中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可优化为如下不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的形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=num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num2&gt;max) max=nu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种优化形式的基本思想是：首先取一个数预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最大值），然后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依次与其余的数逐个比较，如果发现有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的，就用它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新赋值，比较完所有的数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数就是最大值。这种方法，对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以上的数中找最大值的处理，非常有效。请读者仔细体会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任意三个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按从小到大的顺序排序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2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num1,num2,num3,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Please input three numbers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,%d,%d",&amp;num1,&amp;num2,&amp;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1&gt;num2) {temp=num1;num1=num2;num2=temp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2&gt;num3) {temp=num2;num2=num3;num3=temp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1&gt;num2) {temp=num1;num1=num2;num2=temp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Three numbers after sorted: %d,%d,%d\n",num1,num2,num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ease input three numbers:11,22,18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ee numbers after sorted: 11,18,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句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语句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;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“表达式”必须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括起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子句（可选）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的一部分，必须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配对使用，不能单独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面的语句组，仅由一条语句构成时，也可不使用复合语句形式（即去掉花括号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缺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“表达式”的值不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即判定为“逻辑真”）时，则执行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直接转向执行下一条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(a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“表达式”的值不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即判定为“逻辑真”）时，则执行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然后转向下一条语句；否则，执行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1(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与嵌套匹配原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允许嵌套。所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是指，在“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（和）“语句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又包含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嵌套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匹配原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与在它上面、距它最近、且尚未匹配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配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明确匹配关系，避免匹配错误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烈建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将内嵌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一律用花括号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一程序，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十进制数），判断其是否闰年。闰年的条件是：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、但不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，或者能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设计要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Ｘ能被Ｙ整除，则余数为０，即如果Ｘ％Ｙ的值等于０，则表示Ｘ能被Ｙ整除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首先将是否闰年的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预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非闰年），这样仅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闰年时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a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置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可。这种处理两种状态值的方法，对优化算法和提高程序可读性非常有效，请读者仔细体会。参考程序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4_3.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格式和用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{int year,leap=0;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leap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预置为非闰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rintf("Please input the year: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canf("%d",&amp;yea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year % 4==0)      {if (year % 100 != 0) leap=1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   {if (year%400==0) leap=1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leap)   printf("%d is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 printf("%d is not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利用逻辑运算能描述复杂条件的特点，可将上述程序优化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yea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Please input the year: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d",&amp;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(year%4==0 &amp;&amp; year%100!=0)||(year%400==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 is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 is not a leap year.\n",yea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的“表达式”，除常见的关系表达式或逻辑表达式外，也允许是其它类型的数据，如整型、实型、字符型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允许嵌套，但嵌套的层数不宜太多。在实际编程时，应适当控制嵌套层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“语句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语句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可以只包含一个简单语句，也可以是复合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务必牢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不管是简单语句，还是复合语句中的各个语句，每个语句后面的分号必不可少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num1&gt;num2)  max=num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  max=num2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后面的赋值语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num1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分号不能省略。但不要误认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独立的语句，它们都属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一部分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的子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条件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一般格式： 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表达式中的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类型，可以各不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运算规则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逻辑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 则运算结果等于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；否则，运算结果等于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。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运算符的优先级与结合性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运算符的优先级，高于赋值运算符，但低于关系运算符和算术运算符。其结合性为“从右到左”（即右结合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4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上输入一个字符，如果它是大写字母，则把它转换成小写字母输出；否则，直接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4_4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har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a character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c",&amp;c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=(ch&gt;='A' &amp;&amp; ch&lt;='Z') ? (ch+32) :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ch=%c\n",c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关系运算及其表达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“关系运算”实际上就是“比较运算”，即将两个数据进行比较，判定两个数据是否符合给定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&gt; 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一个大于关系运算。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大于关系运算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为“真”，即条件成立；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大于关系运算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结果为“假”，即条件不成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1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关系运算符及其优先次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关系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关系运算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lt;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             &lt;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于或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&gt;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gt;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于或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=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,              !=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Ｃ语言中，“等于”关系运算符是双等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不是单等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赋值运算符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4   swit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句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提供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直接处理多分支选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从键盘上输入一个百分制成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按下列原则输出其等级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≥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≤score&lt;9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0≤score&lt;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0≤score&lt;7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ore&lt;6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等级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5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 score, grade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“Input a score(0~100): 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“%d”, &amp;score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grade = score/10;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成绩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转化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witch (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ase  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9: printf(“grade=A\n”)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90360" y="4572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8: printf("grade=B\n"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7: printf("grade=C\n"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6: printf("grade=D\n"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  0: printf(“grade=E\n”);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ault: printf(“The  score  is  out  of  range!\n”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a score(0~100): 85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=B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一般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case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表达式ｎ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defau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语句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break; ]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执行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“表达式”的值，与某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“常量表达式”的值相同时，就执行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语句（组）；当执行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时，跳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转向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没有任何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“常量表达式”的值，与“表达式”的值匹配，则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aul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语句（组）。然后，再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下一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的“表达式”，可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枚举型中的一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“常量表达式”的值，必须各不相同，否则会出现相互矛盾的现象（即对表达式的同一值，有两种或两种以上的执行方案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后面的常量表达式仅起语句标号作用，并不进行条件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系统一旦找到入口标号，就从此标号开始执行，不再进行标号判断，所以必须加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以便结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去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中的所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，且输入的成绩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输出会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的先后次序，不影响程序执行结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多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子句，可共用同一语句（组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10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9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语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grade=A\n"); break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ase  5: ”~“case  0: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用语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grade=E\n"); break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实现的多分支结构程序，完全可以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的嵌套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5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选择结构程序设计举例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一元二次方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解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4_6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求一元二次方程的解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 "math.h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loat a,b,c,disc,x1,x2,p,q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“%f,%f,%f”, &amp;a, &amp;b, &amp;c);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disc=b*b-4*a*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f (fabs(disc)&lt;=1e-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fabs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求绝对值库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printf(“x1=x2=%7.2f\n”, -b/(2*a)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两个相等的实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else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{ if (disc&gt;1e-6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x1=(-b+sqrt(disc))/(2*a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出两个不相等的实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x2=(-b-sqrt(disc))/(2*a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x1=%7.2f,x2=%7.2f\n", x1, x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{p=-b/(2*a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出两个共轭复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q=sqrt(fabs(disc))/(2*a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printf(“x1=%7.2f + %7.2f i\n“, p, q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两个共轭复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printf(”x2=%7.2f - %7.2f i\n“, p, q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由于实数在计算机中存储时，经常会有一些微小误差，所以本案例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方法是：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绝对值是否小于一个很小的数（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将系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成整数，能否直接判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否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某公司员工的保底薪水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某月所接工程的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整数）与利润提成的关系如下（计量单位：元）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没有提成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算法设计要点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，必须将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与提成的关系，转换成某些整数与提成的关系。分析本题可知，提成的变化点都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数倍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……），如果将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当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解决相邻两个区间的重叠问题，最简单的方法就是：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先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最小增量），然后再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即可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≤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应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L4_7.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long  prof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gr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  salary=5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 profit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ld", &amp;prof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ade= (profit – 1) / 100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利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再整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转化成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标号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witch(g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ase  0: 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profit≤1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1: salary += profit*0.1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≤2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2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3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4: salary += profit*0.15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≤5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5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6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7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8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9: salary += profit*0.2; break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5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≤1000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ault: salary += profit*0.25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10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fit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salary=%.2f\n", salar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优先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关系运算符中，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优先级相同，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也相同，且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高于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与其它种类运算符的优先级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系运算符的优先级，低于算术运算符，但高于赋值运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4.1.2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关系表达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关系表达式的概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关系表达式是指，用关系运算符将两个表达式连接起来，进行关系运算的式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下面的关系表达式都是合法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&gt;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+b&gt;c-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=3)&lt;=(b=5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a'&gt;='b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a&gt;b)= =(b&gt;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关系表达式的值——逻辑值（非“真”即“假”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于Ｃ语言没有逻辑型数据，所以用整数“１”表示“逻辑真”，用整数“０”表示“逻辑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良好的源程序书写风格──注释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要的注释，可有效地提高程序的可读性，从而提高程序的可维护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源程序中，注释可分为三种情况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函数体内对语句的注释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函数之前对函数的注释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源程序文件开始处，对整个程序的总体说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体内的语句，是由顺序结构、选择结构和循环结构等三种基本结构构成的。在什么地方加以注释的原则是：如果不加注释，理解起来就会有困难，或者虽无困难、但浪费时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顺序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每个顺序程序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若干条语句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前，用注释说明其功能。除很复杂的处理外，一般没有必要每条语句都加以注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选择结构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来实现的。一般地说，要在前面说明其作用，在每个分支条件语句行的后面，说明该分支的含义，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说明功能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件成立时的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{……}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口条件含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{……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说明功能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witch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case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该入口值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组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……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ase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常量表达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该入口值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组；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该入口值的含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组；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条件成立时（或入口值）的含义，已经很明确了，也可不再加以注释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=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3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gt;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m1&gt;num2)!=num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lt;num2&lt;num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任意改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，会影响整个表达式的值吗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num1&lt;num2)+num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因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&lt;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+5=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次强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用整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“逻辑真”，用整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“逻辑假”。所以，关系表达式的值，还可以参与其它种类的运算，例如算术运算、逻辑运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逻辑运算及其表达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系表达式只能描述单一条件，例如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gt;=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如果需要描述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gt;=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同时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&lt;10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就要借助于逻辑表达式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逻辑运算及其优先次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．逻辑运算符及其运算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三种逻辑运算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与（相当于“同时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或（相当于“或者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非（相当于“否定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下面的表达式都是逻辑表达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x&gt;=0) &amp;&amp; (x&lt;10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x&lt;1) || (x&gt;5)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! (x= =0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year%4==0)&amp;&amp;(year%100!=0)||(year%400==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算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且仅当两个运算量的值都为“真”时，运算结果为“真”，否则为“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|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且仅当两个运算量的值都为“假”时，运算结果为“假”，否则为“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!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运算量的值为“真”时，运算结果为“假”；当运算量的值为“假”时，运算结果为“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&gt;=0) &amp;&amp; (x&lt;1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“真”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&lt;-1) || (x&gt;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为“假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逻辑运算符的运算优先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逻辑非的优先级最高，逻辑与次之，逻辑或最低，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（非）  →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与） →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与其它种类运算符的优先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→ 算术运算 → 关系运算 →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&amp;→ || →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4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逻辑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逻辑表达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逻辑表达式是指，用逻辑运算符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或多个表达式连接起来，进行逻辑运算的式子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用逻辑表达式表示多个条件的组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year%4==0)&amp;&amp;(year%100!=0)||(year%400==0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一个判断一个年份是否是闰年的逻辑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逻辑表达式的值也是一个逻辑值（非“真”即“假”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逻辑量的真假判定──０和非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用整数“１”表示“逻辑真”、用“０”表示“逻辑假”。但在判断一个数据的“真”或“假”时，却以０和非０为根据：如果为０，则判定为“逻辑假”；如果为非０，则判定为“逻辑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=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：  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０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&gt;=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＆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&lt;=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 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|| num&gt;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逻辑运算符两侧的操作数，除可以是０和非０的整数外，也可以是其它任何类型的数据，如实型、字符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计算逻辑表达式时，只有在必须执行下一个表达式才能求解时，才求解该表达式（即并不是所有的表达式都被求解）。换句话说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逻辑与运算，如果第一个操作数被判定为“假”，系统不再判定或求解第二操作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对于逻辑或运算，如果第一个操作数被判定为“真”，系统不再判定或求解第二操作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假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求解表达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=n1&gt;n2)&amp;&amp;(y=n3&gt;n4)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变为０，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不变，仍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7:44:20Z</dcterms:created>
  <dc:creator>Xu xinhua</dc:creator>
  <dc:description/>
  <dc:language>en-US</dc:language>
  <cp:lastModifiedBy>Xu xinhua</cp:lastModifiedBy>
  <dcterms:modified xsi:type="dcterms:W3CDTF">2001-08-21T07:45:43Z</dcterms:modified>
  <cp:revision>78</cp:revision>
  <dc:subject/>
  <dc:title>第4章    选择结构程序设计</dc:title>
</cp:coreProperties>
</file>