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9325-B170-4B05-AA39-F5B1E163C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33A4-DA65-42D0-83C7-9C617C43B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6054-165D-4031-8FE5-BE5D1C68C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6F11-BADD-4218-A788-DC1E873E3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78F5-473C-4B0F-8748-6CD75789B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FD96-171A-4B4A-845E-0D7DB7010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3D65-F686-42FE-834A-0E67ECFD7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7E91-673F-42AE-9CAD-47FB6A7A8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53C3-A7D1-4CAE-8E12-019504B62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160C-65E8-4754-8856-DC8A677F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72A0-7D0A-46AE-AE50-A68626FA6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C1E0-9677-4603-84E6-072DD0CC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1A68C-C9E2-44D0-A584-5D14ECD0583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第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章   数据类型、运算符与表达式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1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程序设计概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2  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语言的数据类型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3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常量和变量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4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整型数据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5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实型数据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6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字符型数据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7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算术运算与算术表达式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8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赋值运算与赋值表达式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9   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语言特有的运算和运算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[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807696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２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基本整型。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机中，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节存储，其数据范围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型变量一样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长整型（在数值后面加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”）。对超出基本整型值域的整型常量，可使用长整型常量表示，其取值范围可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２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３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２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３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１）。例如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3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1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Ｌ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３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类型匹配规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类型匹配规则为：一个整型常量，可以赋给能容纳下其值的整型变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，其值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２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１５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２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１５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１）的整型常量，可以赋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型变量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ong i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型变量；其值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２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３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２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３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１）的整型常量，就只能赋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ong i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型变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注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常量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nsign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型。但一个非负整型常量，只要它的值不超过相应变量的值域（即取值范围），也可以赋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nsign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型变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[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2.5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实型数据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06632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2.5.1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实型变量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Ｃ语言的实型变量，分为两种：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单精度型。类型关键字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loa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一般占４字节（３２位）、提供７位有效数字。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双精度型。类型关键字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一般占８个字节、提供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5~16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位有效数字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2.5.2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实型常量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１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表示形式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实型常量即实数，在Ｃ语言中又称浮点数，其值有两种表达形式：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十进制形式。例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.1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9.8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指数形式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尾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&gt;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整型指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例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.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Ｅ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+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等。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２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关于类型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实型常量不分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loa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型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型。一个实型常量，可以赋给一个实型变量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loa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型或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型）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1" action="ppaction://hlinksldjump"/>
              </a:rPr>
              <a:t>[</a:t>
            </a: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2" action="ppaction://hlinksldjump"/>
              </a:rPr>
              <a:t>Retur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2.6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字符型数据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6.1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字符常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符常量的定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用一对单引号括起来的单个字符，称为字符常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，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‘１’、‘＋’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转义字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Ｃ语言还允许使用一种特殊形式的字符常量，就是以反斜杠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\ 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开头的转义字符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注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如果反斜杠或单引号本身作为字符常量，必须使用转义字符：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\\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\’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用转义字符输出可打印字符和不可打印字符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L2_1.C*/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程序功能：用转义字符输出可打印字符和不可打印字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{ printf(“\x4F\x4B\x21\n”)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等价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“OK!\n”); 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printf(“\x15  \xAB\n”);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程序运行结果如下：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ＯＫ！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§  ½                                                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6.2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字符变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符变量的类型关键字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ha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一般占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节内存单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变量值的存储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字符变量用来存储字符常量。将一个字符常量存储到一个字符变量中，实际上是将该字符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SCI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码值（无符号整数）存储到内存单元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har ch1, ch2;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定义两个字符变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h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h2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h1=’a’; ch2=’b’; 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给字符变量赋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09120" y="457200"/>
            <a:ext cx="8001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特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符数据在内存中存储的是字符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SCI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码── 一个无符号整数，其形式与整数的存储形式一样（如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-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示），所以Ｃ语言允许字符型数据与整型数据之间通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一个字符型数据，既可以字符形式输出，也可以整数形式输出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符变量的字符形式输出和整数形式输出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L2_2.C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程序功能：用字符形式和整数形式输出字符变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main()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{ char ch1,ch2;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ch1='a'; ch2='b'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“ch1=%c,ch2=%c\n”,ch1,ch2);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printf(“ch1=%d,ch2=%d\n”,ch1,ch2);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}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程序运行结果：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h1=a,ch2=b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ch1=97,ch2=98                            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允许对字符数据进行算术运算，此时就是对它们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SCI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码值进行算术运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符数据的算术运算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L2_3.C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程序功能：字符数据的算术运算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main()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{ char ch1,ch2;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ch1=‘a’; ch2=‘B’;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字母的大小写转换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printf(“ch1=%c,ch2=%c\n”,ch1-32,ch2+32);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用字符形式输出一个大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56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数值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printf("ch1+200=%d\n", ch1+200);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printf("ch1+200=%c\n", ch1+200);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printf("ch1+256=%d\n", ch1+256);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printf("ch1+256=%c\n", ch1+256);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程序运行结果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h1=A,ch2=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h1+200=29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h1+200=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h1+256=35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h1+256=a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思考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用字符形式输出一个大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5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数值，会得到什么结果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6.3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字符串常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符串常量的概念和字符串长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符串常量是用一对双引号括起来的若干字符序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字符串中字符的个数称为字符串长度。长度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字符串（即一个字符都没有的字符串）称为空串，表示为“ ” （一对紧连的双引号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，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ow do you do.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ood morning.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等，都是字符串常量，其长度分别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空格也是一个字符）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如果反斜杠和双引号作为字符串中的有效字符，则必须使用转义字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：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:\msdos\v6.22  → "C:\\msdos\\v6.22"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 say:"Goodbye!"  →  "I say:\"Goodbye!\"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字符串的存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言规定：在存储字符串常量时，由系统在字符串的末尾自动加一个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\0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作为字符串的结束标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注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在源程序中书写字符串常量时，不必加结束字符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\0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否则画蛇添足。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如果有一个字符串为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HINA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则它在内存中的实际存储如下所示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最后一个字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'\0'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系统自动加上的，它占用６字节而非５字节内存空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133720" y="5257800"/>
          <a:ext cx="4419360" cy="365040"/>
        </p:xfrm>
        <a:graphic>
          <a:graphicData uri="http://schemas.openxmlformats.org/drawingml/2006/table">
            <a:tbl>
              <a:tblPr/>
              <a:tblGrid>
                <a:gridCol w="685800"/>
                <a:gridCol w="807840"/>
                <a:gridCol w="806400"/>
                <a:gridCol w="808200"/>
                <a:gridCol w="806400"/>
                <a:gridCol w="504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\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综上所述，字符常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'A'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与字符串常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"A"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两回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定界符不同：字符常量使用单引号，而字符串常量使用双引号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长度不同：字符常量的长度固定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而字符串常量的长度，可以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也可以是某个整数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存储要求不同：字符常量存储的是字符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SCI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码值，而字符串常量，除了要存储有效的字符外，还要存储一个结束标志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\0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hlinkClick r:id="rId1" action="ppaction://hlinksldjump"/>
              </a:rPr>
              <a:t>[</a:t>
            </a: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hlinkClick r:id="rId2" action="ppaction://hlinksldjump"/>
              </a:rPr>
              <a:t>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2.7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算术运算与算术表达式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Ｃ语言中，除控制语句和输入输出函数外，其它所有基本操作都作为运算符处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五种基本算术运算符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减法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取负）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%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求余数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关于除法运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言规定：两个整数相除，其商为整数，小数部分被舍弃。例如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 / 2 = 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关于求余数运算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要求两侧的操作数均为整型数据，否则出错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表达式和算术表达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表达式的概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用运算符和括号将运算对象（常量、变量和函数等）连接起来的、符合Ｃ语言语法规则的式子，称为表达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2.1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程序设计概述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个程序应包括对数据的描述和对数据处理的描述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对数据的描述，即数据结构。数据结构是计算机学科的核心课程之一，有许多专门著作论述，本课程就不再赘述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言中，系统提供的数据结构，是以数据类型的形式出现的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对数据处理的描述，即计算机算法。算法是为解决一个问题而采取的方法和步骤，是程序的灵魂。为此，著名计算机科学家沃思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ikiklaus Wirt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提出一个公式：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据结构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算法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程序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实际上，一个程序除了数据结构和算法外，还必须使用一种计算机语言，并采用结构化方法来表示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[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6840" y="609480"/>
            <a:ext cx="80010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个常量、变量或函数，可以看作是表达式的一种特例。将单个常量、变量或函数构成的表达式称为简单表达式，其它表达式称之为复杂表达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算术表达式的概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达式中的运算符都是算术运算符。例如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 + 6 * 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x + y) / 2 - 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等，都是算术表达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良好的源程序书写习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在表达式中，在双目运算符的左右两侧各加一个空格，可增强程序的可读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请比较表达式“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x + y) / 2 – 1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与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x+y)/2–1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您认为哪个的可读性更好一些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运算符的优先级与结合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Ｃ语言规定了运算符的优先级和结合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谓结合性是指，当一个操作数两侧的运算符具有相同的优先级时，该操作数是先与左边的运算符结合，还是先与右边的运算符结合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自左至右的结合方向，称为左结合性。反之，称为右结合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结合性是Ｃ语言的独有概念。除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单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运算符、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赋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运算符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条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运算符是右结合性外，其它运算符都是左结合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表达式求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按运算符的优先级高低次序执行。例如，先乘除后加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如果在一个运算对象（或称操作数）两侧的运算符的优先级相同，则按Ｃ语言规定的结合方向（结合性）进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，算术运算符的结合方向是“自左至右”，即：在执行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 – b + c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时，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先与减号结合，执行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 - b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然后再执行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运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据类型转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在Ｃ语言中，整型、实型和字符型数据间可以混合运算（因为字符数据与整型数据可以通用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果一个运算符两侧的操作数的数据类型不同，则系统按“先转换、后运算”的原则，首先将数据自动转换成同一类型，然后在同一类型数据间进行运算。转换规则如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-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横向向左的箭头，表示必须的转换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ha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hort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型必须转换成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型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loa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型必须转换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型。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纵向向上的箭头，表示不同类型的转换方向。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型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型数据进行混合运算，则先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型数据转换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型，然后在两个同类型的数据间进行运算，结果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型。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注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箭头方向只表示数据类型由低向高转换，不要理解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型先转换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nsign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型，再转换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on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型，最后转换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除自动转换外，Ｃ语言也允许强制转换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类型强制转换的一般格式为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要转换成的数据类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被转换的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当被转换的表达式是一个简单表达式时，外面的一对圆括号可以缺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例如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(double)a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（等价于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(double)(a))   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将变量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的值转换成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型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(int)(x + y)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将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x+y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的结果转换成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型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(float)5 / 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（等价于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(float)(5)/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将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转换成实型，再除以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=2.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(float)(5 / 2)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将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整除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的结果（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）转换成实型（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2.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注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强制转换类型得到的是一个所需类型的中间量，原表达式类型并不发生变化。例如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(double)a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只是将变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值转换成一个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型的中间量，其数据类型并未转换成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型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hlinkClick r:id="rId1" action="ppaction://hlinksldjump"/>
              </a:rPr>
              <a:t>[</a:t>
            </a: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hlinkClick r:id="rId2" action="ppaction://hlinksldjump"/>
              </a:rPr>
              <a:t>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2.8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赋值运算与赋值表达式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赋值运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赋值符号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就是赋值运算符，它的作用是将一个表达式的值赋给一个变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赋值运算符的一般形式为：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变量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赋值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 = 5               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y = (float)5 / 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果表达式值的类型，与被赋值变量的类型不一致，但都是数值型或字符型时，系统自动地将表达式的值转换成被赋值变量的数据类型，然后再赋值给变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思考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假设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数据类型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loa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其值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则执行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 = (int)num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后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u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值等于多少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8487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复合赋值运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复合赋值运算符是由赋值运算符之前再加一个双目运算符构成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复合赋值运算的一般格式为：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变量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双目运算符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达式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└──┬──┘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复合赋值运算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它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等价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变量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变量 双目运算符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当表达式为简单表达式时，表达式外的一对圆括号才可缺省，否则可能出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例如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x += 3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等价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x=x+3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y *= x + 6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等价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y=y*(x+6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而不是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y=y*x+6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语言规定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种复合赋值运算符如下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+=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-=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=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=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%=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；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复合算术运算符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&amp;=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^=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|=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&lt;&lt;=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&gt;&gt;=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复合位运算符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赋值表达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由赋值运算符或复合赋值运算符，将一个变量和一个表达式连接起来的表达式，称为赋值表达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一般格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变量  （复合）赋值运算符  表达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赋值表达式的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任何一个表达式都有一个值，赋值表达式也不例外。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被赋值变量的值，就是赋值表达式的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，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 = 5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个赋值表达式，变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值“５”就是它的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hlinkClick r:id="rId1" action="ppaction://hlinksldjump"/>
              </a:rPr>
              <a:t>[</a:t>
            </a: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hlinkClick r:id="rId2" action="ppaction://hlinksldjump"/>
              </a:rPr>
              <a:t>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2.9   C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语言特有的运算和运算符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9.1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自增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、自减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运算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作用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自增运算使单个变量的值增１，自减运算使单个变量的值减１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用法与运算规则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自增、自减运算符都有两种用法：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前置运算──运算符放在变量之前：＋＋变量、－－变量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先使变量的值增（或减）１，然后再以变化后的值参与其它运算，即先增减、后运算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后置运算──运算符放在变量之后：变量＋＋、变量－－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变量先参与其它运算，然后再使变量的值增（或减）１，即先运算、后增减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自增、自减运算符的用法与运算规则示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L2_4.C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程序功能：自增、自减运算符的用法与运算规则示例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int x=6, 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x=%d\n",x);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输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初值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y =  ++x;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前置运算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y=++x: x=%d,y=%d\n",x,y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y = x--;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后置运算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y=x--: x=%d,y=%d\n",x,y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程序运行结果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x=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y=++x: x=7,y=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y=x--: x=6,y=7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533160" y="609480"/>
            <a:ext cx="79246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思考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如果将案例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y=++x;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句中的前置运算改为后置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y=x++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，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y=x--;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句中的后置运算改为前置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y=--x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，程序运行结果会如何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说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自增、自减运算，常用于循环语句中，使循环控制变量加（或减）１，以及指针变量中，使指针指向下（或上）一个地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自增、自减运算符，不能用于常量和表达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+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-(a+b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等都是非法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在表达式中，连续使同一变量进行自增或自减运算时，很容易出错，所以最好避免这种用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8.2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逗号运算（，）及其表达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Ｃ语言提供一种用逗号运算符“，”连接起来的式子，称为逗号表达式。逗号运算符又称顺序求值运算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2.2   C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语言的数据类型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言提供的数据结构，是以数据类型形式出现的。具体分类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基本类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为整型、实型（又称浮点型）、字符型和枚举型四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构造类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为数组类型、结构类型和共用类型三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针类型。在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章中介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空类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言中的数据，有常量和变量之分，它们分别属于上述这些类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本章将介绍基本类型中的整型、实型和字符型三种数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[Return</a:t>
            </a:r>
            <a:r>
              <a:rPr b="0" lang="zh-CN" sz="2400" spc="-1" strike="noStrike" u="sng">
                <a:solidFill>
                  <a:srgbClr val="0000cc"/>
                </a:solidFill>
                <a:uFillTx/>
                <a:latin typeface="Times New Roman"/>
                <a:hlinkClick r:id="rId1" action="ppaction://hlinksldjump"/>
              </a:rPr>
              <a:t>]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般形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达式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达式２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……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求解过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自左至右，依次计算各表达式的值，“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”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值即为整个逗号表达式的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，逗号表达式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 = 3 * 5, a * 4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6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先求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 = 3 * 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=1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再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 * 4 = 6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所以逗号表达式的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6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又例如，逗号表达式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a = 3 * 5, a * 4), a + 5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2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先求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 = 3 * 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=1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再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 * 4=6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最后求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 + 5=2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所以逗号表达式的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2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注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并不是任何地方出现的逗号，都是逗号运算符。很多情况下，逗号仅用作分隔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hlinkClick r:id="rId1" action="ppaction://hlinksldjump"/>
              </a:rPr>
              <a:t>[</a:t>
            </a: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hlinkClick r:id="rId2" action="ppaction://hlinksldjump"/>
              </a:rPr>
              <a:t>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2.3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常量和变量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7696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3.1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常量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常量的概念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在程序运行过程中，其值不能被改变的量称为常量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常量的分类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整型常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实型常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字符常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符号常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常量的类型，可通过书写形式来判别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3.2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变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变量的概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程序运行过程中，其值可以被改变的量称为变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变量的两个要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变量名。每个变量都必须有一个名字──变量名，变量命名遵循标识符命名规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变量值。在程序运行过程中，变量值存储在内存中。在程序中，通过变量名来引用变量的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标识符命名规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有效字符：只能由字母、数字和下划线组成，且以字母或下划线开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有效长度：随系统而异，但至少前８个字符有效。如果超长，则超长部分被舍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，由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udent_nam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udent_numbe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前８个字符相同，有的系统认为这两个变量，是一回事而不加区别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C V2.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，变量名（标识符）的有效长度为１～３２个字符，缺省值为３２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言的关键字不能用作变量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注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言对英文字母的大小敏感，即同一字母的大小写，被认为是两个不同的字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习惯上，变量名和函数名中的英文字母用小写，以增加可读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思考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言中，变量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与变量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等是同一个变量吗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标识符命名的良好习惯──见名知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谓“见名知意”是指，通过变量名就知道变量值的含义。通常应选择能表示数据含义的英文单词（或缩写）作变量名，或汉语拼音字头作变量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ame/x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姓名）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x/x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性别）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ge/n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年龄）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alary/gz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工资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30592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变量的定义与初始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Ｃ语言中，要求对所有用到的变量，必须先定义、后使用；且称在定义变量的同时进行赋初值的操作为变量初始化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变量定义的一般格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存储类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类型   变量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变量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……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loat  radius, length, are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变量初始化的一般格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存储类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据类型  变量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初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[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变量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[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初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]……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loat radius=2.5,  length, area;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hlinkClick r:id="rId1" action="ppaction://hlinksldjump"/>
              </a:rPr>
              <a:t>[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2.4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整型数据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1536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4.1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整型变量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类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根据占用内存字节数的不同，整型变量又分为４类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基本整型（类型关键字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短整型（类型关键字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hort  [int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长整型（类型关键字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ong  [int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无符号整型。无符号型又分为无符号基本整型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nsigned  [int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、无符号短整型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nsigned  shor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和无符号长整型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nsigned  lon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三种，只能用来存储无符号整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占用内存字节数与值域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上述各类型整型变量占用的内存字节数，随系统而异。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操作系统中，一般用２字节表示一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型变量，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on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型（４字节）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型（２字节）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hor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型（２字节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30592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显然，不同类型的整型变量，其值域不同。占用内存字节数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（有符号）整型变量，其值域为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2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n*8-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n*8-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；无符号整型变量的值域为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~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n*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例如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机中的一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型变量，其值域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2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2*8-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2*8-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，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32768~3276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一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nsigne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型变量的值域为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~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2*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，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~6553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4.2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整型常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三种表示形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整型常量即整常数，在Ｃ语言中可用三种形式表示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十进制。例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八进制（以数字０开头）。例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1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十六进制（以数字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小写字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开头）。例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x3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1T02:02:51Z</dcterms:created>
  <dc:creator>Xu xinhua</dc:creator>
  <dc:description/>
  <dc:language>en-US</dc:language>
  <cp:lastModifiedBy>Xu xinhua</cp:lastModifiedBy>
  <dcterms:modified xsi:type="dcterms:W3CDTF">2001-08-21T07:46:46Z</dcterms:modified>
  <cp:revision>103</cp:revision>
  <dc:subject/>
  <dc:title> 第2章   数据类型、运算符与表达式</dc:title>
</cp:coreProperties>
</file>