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6652-54D9-4C2A-8F34-27EEFC14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077B-3BAD-415E-9C4A-25A10A40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F8E7-A80D-41BA-A885-4F71C790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E426-439B-4E03-AF21-3803A07C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E9B-0A27-4E85-8DB9-87D324FC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248-68B2-406E-A7BE-C4DAFC25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EAD-0762-4CDC-AF3C-C22E5723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E08-19BF-4981-87B7-BC42B864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B9F-107C-410D-8B28-06A8B246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CC4-6641-47D6-B490-B4F842DE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52E-3F2A-44BE-8878-71ECBBD5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CBF-22FE-4DD8-8798-1EE0C8FA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B74C-57B3-4B5E-B2B3-0759D571E2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22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章    Ｃ语言概述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本章主要介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语言程序的结构和书写规则，以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urbo C V2.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基本操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1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言的发展简史和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Ｃ语言程序的结构与书写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3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语言的语句和关键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4  Turbo C V2.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基本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7631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可执行语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般由若干条可执行语句构成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体的示意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num1,num2;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变量定义部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first integer number: 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“%d”, &amp;num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second integer number: ”);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执行语句部分        函数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“%d”, &amp;num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max=%d\n”, max(num1, num2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-2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体结构示意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函数体中的变量定义语句，必须在所有可执行语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下面程序中变量定义语句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ma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”的位置是非法的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220968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259092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220968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x,y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变量定义语句：定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整型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=3;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执行的赋值语句：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赋值给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=6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执行的赋值语句：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赋值给变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max;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变量定义语句：出现在可执行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赋值语句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x=3;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和“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y=6;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之后，非法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x=x&gt;y?x: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max=%d\n”,ma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解决办法很简单，请读者自己思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如果不需要，也可以缺省变量定义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2.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源程序书写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有语句都必须以分号“；”结束，函数的最后一个语句也不例外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行的书写格式自由，既允许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行内写几条语句，也允许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条语句分写在几行上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也可改写成如下所示的格式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num1,num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first integer number: ”); scanf(“%d”, &amp;num1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second integer number: ”); scanf(“%d”, &amp;num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max=%d\n”, max(num1, num2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某条语句很长，一般需要将其分写在几行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允许使用注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的注释格式为：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 ……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1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2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以及本节其它部分给出的源程序中，凡是用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括起来的文字，都是注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必须成对使用，且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以及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不能有空格，否则都出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技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为避免遗漏必须配对使用的符号，例如注释符号、函数体的起止标识符（花括号）、圆括号等等，在输入时，可连续输入这些起止标识符，然后再在其中进行插入来完成内容的编辑。在起止标识符嵌套时，以及相距较远时，这样做更有必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注释的位置，可以单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，也可以跟在语句的后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写不下，可另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继续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注释中允许使用汉字。在非中文操作系统下，看到的是一串乱码，但不影响程序运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.3   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语言的语句和关键字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3.1  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的语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其它高级语言一样，Ｃ语言也是利用函数体中的可执行语句，向计算机系统发出操作命令。按照语句功能或构成的不同，可将Ｃ语言的语句分为五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控制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控制语句完成一定的控制功能。Ｃ语言只有９条控制语句，又可细分为三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择结构控制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if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switch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循环结构控制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hile(), for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while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break,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其它控制语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oto, 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调用语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调用语句由一次函数调用加一个分号（语句结束标志）构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"This is a C function statement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达式语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达式语句由表达式后加一个分号构成。最典型的表达式语句是，在赋值表达式后加一个分号构成的赋值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=5 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一个赋值表达式，而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=5;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却是一个赋值语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空语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空语句仅由一个分号构成。显然，空语句什么操作也不执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45720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，下面就是一个空语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合语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合语句是由大括号括起来的一组（也可以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）语句构成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……} 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复合语句。注意：右括号后不需要分号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复合语句的性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语法上和单一语句相同，即单一语句可以出现的地方，也可以使用复合语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复合语句可以嵌套，即复合语句中也可出现复合语句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3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键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的关键字共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，根据关键字的作用，可分其为数据类型关键字、控制语句关键字、存储类型关键字和其它关键字四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数据类型关键字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ar, double, enum, float, int, long, short, signed, struct, union, unsigned, v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控制语句关键字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reak, case, continue, default, do, else, for, goto, if, return, switch,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存储类型关键字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uto, extern, register, 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其它关键字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）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nst, sizeof, typedef, vol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4  Turbo C V2.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基本操作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1.运行一个Ｃ语言程序的一般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2.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TC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4" action="ppaction://hlinksldjump"/>
              </a:rPr>
              <a:t>的启动、退出与命令菜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5" action="ppaction://hlinksldjump"/>
              </a:rPr>
              <a:t>3.编辑并保存一个Ｃ语言源程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编译、连接──单个源程序文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6" action="ppaction://hlinksldjump"/>
              </a:rPr>
              <a:t>5.运行与查看结果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7" action="ppaction://hlinksldjump"/>
              </a:rPr>
              <a:t>6.编辑下一个新的源程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8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9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运行一个Ｃ语言程序的一般过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urbo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Ｃ是一个集源程序编辑、编译、连接、运行与调试于一体、 用菜单驱动的集成软件环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运行一个Ｃ语言程序的一般过程：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启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进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集成环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编辑（或修改）源程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编译。如果编译成功，则可进行下一步操作；否则，返回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修改源程序，再重新编译，直至编译成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连接。如果连接成功，则可进行下一步操作；否则，根据系统的错误提示，进行相应修改，再重新连接，直至连接成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运行。通过观察程序运行结果，验证程序的正确性。如果出现逻辑错误，则必须返回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修改源程序，再重新编译、连接和运行，直至程序正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退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集成环境，结束本次程序运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1   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语言的发展简史和特点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Ｃ语言的诞生与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诞生以前，系统软件主要是用汇编语言编写的。由于汇编语言程序依赖于计算机硬件，其可读性和可移植性都很差；但一般的高级语言又难以实现对计算机硬件的直接操作（这正是汇编语言的优势），于是人们盼望有一种兼有汇编语言和高级语言特性的新语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Ｃ语言是贝尔实验室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代初研制出来的，后来又被多次改进，并出现了多种版本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代初，美国国家标准化协会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NS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根据Ｃ语言问世以来各种版本对Ｃ语言的发展和扩充，制定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NSI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准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98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再次做了修订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书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NSI 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标准来介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4724280"/>
            <a:ext cx="11430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4876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.T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启动、退出与命令菜单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启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Turbo 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 ←┘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画面演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urbo 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，其主菜单条横向排列在屏幕顶端，并被激活，其中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项成为当前项。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菜单的下面，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d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编辑）窗口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消息）窗口。两个窗口中，顶端横线为双线显示的，表示该窗口是活动窗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编辑窗口的顶端为状态行，其中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ine  1  Col  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显示光标所在的行号和列号，即光标位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表示编辑状态处于“插入”。当处于“改写”状态时，此处为空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: NONAME.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显示当前正在编辑的文件名。显示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ONAME.C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表示用户尚未给文件命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屏幕底端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功能键的说明，以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 Loc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键的状态（显示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NUM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，表示处于“数字键”状态；空白，表示“控制键”状态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命令菜单的使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按下功能键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激活主菜单。如果主菜单已经被激活，则直接转下一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用左、右方向键移动光带，定位于需要的主项上，然后再按回车键，打开其子菜单（纵向排列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用上、下方向键移动光带，定位于需要的子项上，回车即可。执行完选定的功能后，系统自动关闭菜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菜单激活后，又不使用，可再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s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键关闭，返回原来状态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退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Turbo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退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有两种方法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菜单法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le | Qu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先选择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项，再选择并执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Qui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子项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快捷键法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t+“X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先按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键并保持，再按字母键Ｘ，然后同时放开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[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编辑并保存一个Ｃ语言源程序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激活主菜单，选择并执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le | Lo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项（快捷键键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在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oad File Name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窗口，输入源程序文件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文件名的输入有两种方法：直接输入和选择输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直接输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按照文件名的组成字符串，逐个字符输入即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是已经存在的文件，系统就在编辑窗口显示该文件的内容，可供编辑、修改。如果是新文件，则给出一个空白编辑窗口，可供输入新的源程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果该文件不在当前目录下，则需要冠以路径名和（或）盘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选择文件（仅适用于已经存在的源程序文件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空回车，打开当前目录下、后缀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Ｃ的所有文件的文件名窗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上、下、左、右方向键，将光带定位于所需的文件名上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按回车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常用编辑操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编辑源程序过程中，随时都可以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键（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ile | Sav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，将当前编辑的文件存盘，然后继续编辑。这是一个良好的习惯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关于在线帮助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任何窗口（或状态）下，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键激活活动窗口（或状态）的在线帮助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下一页─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ageDow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返回上一页─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age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关闭在线帮助、返回原窗口（或状态）─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返回前一个在线帮助屏─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t+F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无论在线帮助是否被激活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返回在线帮助索引─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激活在线帮助后，再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则返回在线帮助索引，以便查询其它类别在线帮助信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．查询库函数的在线帮助信息─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^F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将光标移到需要查询函数名的首字符上，然后键入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^F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即可获得该库函数的在线帮助信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为简化描述，用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^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代表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rl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键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^F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就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trl+F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下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编译、连接──单个源程序文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并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mpile | Make EXE F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项（快捷键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自动完成对当前正在编辑的源程序文件的编译、连接，并生成可执行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源程序有语法错误，系统将在屏幕中央的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mpiling 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编译）窗口底端提示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rror:  Press any key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错误：按任意键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时，按空格键，屏幕下端的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essage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消息）窗口被激活， 显示出错（或警告）信息，光带停在第一条消息上。这时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dit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编辑）窗口中也有一条光带，它总是停在编译错误在源代码中的相应位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当用上、下键移动消息窗口中的光带时，编辑窗口中的光带也随之移动，始终跟踪源代码中的错误位置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运行与查看结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运行当前正在编辑的源程序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并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un | Ru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项（快捷键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^F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程序运行结束后， 仍返回到编辑窗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你认为自己的源程序不会有编译、连接错误时，也可直接运行（即跳过对源程序的编译、连接步骤）。这时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一次完成从编译、连接到运行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查看运行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并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un | User Scree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项（快捷键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t+F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查看完毕后，按任一键返回编辑窗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发现逻辑错误，则可在返回编辑窗口后，进行修改；然后再重新编译、连接、运行，直至正确为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编辑下一个新的源程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并执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ile | N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项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屏幕提示如下确认信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NAME.C not saved. Save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/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需要保存当前正在编辑的源程序，则键入“Ｙ”，进入下一步操作；否则，键入“Ｎ”（不保存），跳转到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系统提示换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:&gt;&lt;path&gt;\NONAME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接输入你给源程序文件起的名字即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系统给出一个空白的编辑窗口，可以开始编辑下一个新的源程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目前，在微机上广泛使用的Ｃ语言编译系统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icrosoft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urbo C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rland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。虽然它们的基本部分都是相同的，但还是有一些差异， 所以请大家注意自己所使用的Ｃ编译系统的特点和规定（参阅相应的手册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书选定的上机环境是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C V2.0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O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操作系统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言的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同时具有汇编语言和高级语言的优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语言简洁、紧凑，使用方便、灵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运算符极其丰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生成的目标代码质量高，程序执行效率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可移植性好（较之汇编语言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可以直接操纵硬件。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中，除实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顺序、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循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种基本结构等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控制语句外，输入输出操作均由标准库函数（不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语言的组成部分）来实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学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语言，不仅要学习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条控制语句和各种运算符，而且要学习并掌握常用标准库函数的使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Return]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.2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Ｃ语言程序的结构与书写规则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2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Ｃ语言程序的总体结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个完整的Ｃ语言程序，是由一个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（又称主函数）和若干个其它函数结合而成的，或仅由一个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构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]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仅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构成的Ｃ语言程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L1_1.C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功能：仅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构成的Ｃ语言程序示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 printf(“This is a C program.\n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程序运行结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is is a C program.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1532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其它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x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构成的Ｃ语言程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代码文件名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L1_2.C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/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功能：由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个其它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x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构成的Ｃ语言程序示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max(int x, int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return( x&gt;y ? x : y 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int num1,num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first integer number: 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“%d”, &amp;num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Input the second integer number: 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canf(“%d”, &amp;num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f(“max=%d\n”, max(num1, num2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情况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the first integer number:6←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the second integer number:9←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x=9                                                                            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演示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76212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改写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交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x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前后位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源程序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程序运行情况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the first integer number:6←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put the second integer number:9←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x=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是Ｃ语言程序的基本单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的作用，相当于其它高级语言中的主程序；其它函数的作用，相当于子程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言程序总是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ain(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开始执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个Ｃ语言程序，总是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开始执行，而不论其在程序中的位置。当主函数执行完毕时，亦即程序执行完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习惯上，将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放在最前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2.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的一般结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任何函数（包括主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都是由函数说明和函数体两部分组成。其一般结构如下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类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]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参数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说明部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语句部分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执行语句部分；                                       函数体部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的语法符号约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...]─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括号表示可选（即可以指定，也可以缺省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……─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省略号表示前面的项可以重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|    ──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多（含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中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说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由函数类型（可缺省）、函数名和函数参数表三部分组成，其中函数参数表的格式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据类型  形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数据类型  形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……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205740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24480" y="1676520"/>
            <a:ext cx="76320" cy="228600"/>
          </a:xfrm>
          <a:custGeom>
            <a:avLst/>
            <a:gdLst>
              <a:gd name="textAreaLeft" fmla="*/ 0 w 76320"/>
              <a:gd name="textAreaRight" fmla="*/ 27360 w 763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160" y="68544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例如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2]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的函数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ax(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其函数说明各部分如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-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类型         函数名        函数参数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↓                   ↓                    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int                max  (     int    x ,     int     y  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-1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说明部分结构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旧标准中，函数可以缺省参数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函数说明部分的下面、大括号（必须配对使用）内的部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函数体一般由说明语句和可执行语句两部分构成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说明语句部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明语句部分由变量定义、自定义类型定义、自定义函数说明、外部变量说明等组成。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09:27:29Z</dcterms:created>
  <dc:creator>Xu xinhua</dc:creator>
  <dc:description/>
  <dc:language>en-US</dc:language>
  <cp:lastModifiedBy>Xu xinhua</cp:lastModifiedBy>
  <dcterms:modified xsi:type="dcterms:W3CDTF">2001-08-21T02:00:27Z</dcterms:modified>
  <cp:revision>149</cp:revision>
  <dc:subject/>
  <dc:title>第1章 </dc:title>
</cp:coreProperties>
</file>